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B601-56CA-49DC-B3AA-EEE7E725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FB0-4169-4C46-B7B3-143F7191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8304-B106-4537-8BB4-20F59F19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6444-7399-40BA-8B87-C2F58C38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ED51-834C-4B8B-AA46-8FC37F94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179C-6BB8-47A4-B23F-315C35C0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B8D-3838-4F3A-B27F-B819EC93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1B29-DCFE-4DE3-84DB-F40E20D4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9EE2-E6F6-4488-ABCD-ADB1744E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6DF-5B2B-46A6-BC19-5064CC17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AE6A-B151-4DC6-A560-D233243C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047-B372-41CB-A212-3DC4BAFF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6610A-018C-4E9D-863E-2336EA7FE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9280" y="900000"/>
            <a:ext cx="6110280" cy="665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60360" y="900000"/>
            <a:ext cx="882000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017979" dir="18900860" blurRad="0" rotWithShape="0">
                    <a:srgbClr val="94bd5e">
                      <a:alpha val="60000"/>
                    </a:srgbClr>
                  </a:outerShdw>
                </a:effectLst>
                <a:latin typeface="Times New Roman"/>
              </a:rPr>
              <a:t>WATER POLLUTION WHICH AFFECTS GLOBAL WARMING </a:t>
            </a:r>
            <a:endParaRPr b="0" lang="en-US" sz="1800" spc="-1" strike="noStrike">
              <a:ln w="0">
                <a:noFill/>
              </a:ln>
              <a:solidFill>
                <a:srgbClr val="0000ff"/>
              </a:solidFill>
              <a:effectLst>
                <a:outerShdw dist="1017979" dir="18900860" blurRad="0" rotWithShape="0">
                  <a:srgbClr val="94bd5e">
                    <a:alpha val="6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7920" y="2700360"/>
            <a:ext cx="476244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0360" y="179280"/>
            <a:ext cx="936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787320"/>
            <a:ext cx="10080720" cy="6840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360" y="179280"/>
            <a:ext cx="91803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800" spc="-1" strike="noStrike" u="sng">
                <a:solidFill>
                  <a:srgbClr val="000000"/>
                </a:solidFill>
                <a:uFillTx/>
                <a:latin typeface="Arial"/>
              </a:rPr>
              <a:t>The water pollution in gene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0360" y="1260360"/>
            <a:ext cx="882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0"/>
            <a:ext cx="9899640" cy="21607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360" y="179280"/>
            <a:ext cx="9360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360360"/>
            <a:ext cx="918072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e discharge of oil in water bear any influence on global wa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2340000"/>
            <a:ext cx="6120000" cy="4859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80000" y="2340000"/>
            <a:ext cx="341964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ere we can see oil which has been rejected into the sea by an oil tanker.Evrey year many tons of oil is put into the sea and causes global w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79280"/>
            <a:ext cx="8640720" cy="1440000"/>
          </a:xfrm>
          <a:prstGeom prst="ellipse">
            <a:avLst/>
          </a:prstGeom>
          <a:solidFill>
            <a:srgbClr val="b3b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488880"/>
            <a:ext cx="972036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Industrie rele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800360"/>
            <a:ext cx="5400720" cy="5580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59280" y="2160720"/>
            <a:ext cx="126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59280" y="1800360"/>
            <a:ext cx="4140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59280" y="1800360"/>
            <a:ext cx="3959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360" y="1979640"/>
            <a:ext cx="360036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dustries , like this one release bad water every year into rivers and oceans.This affects sea creatures and global warm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20720" y="360360"/>
            <a:ext cx="8640720" cy="1440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WASTE WAT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2240" y="1979640"/>
            <a:ext cx="4848120" cy="5400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19640" y="1979640"/>
            <a:ext cx="431964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Polluted water is rejected by residances , commercials and houses into rivers and lak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60360" y="360360"/>
            <a:ext cx="9539280" cy="152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CONCLUSION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6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Most of global warming is caused by water pollution </a:t>
            </a: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and water pollution is caused </a:t>
            </a: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by humain releases</a:t>
            </a:r>
            <a:r>
              <a:rPr b="1" lang="fr-FR" sz="8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8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8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8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8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fr-FR" sz="88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360360"/>
            <a:ext cx="9899640" cy="70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Arial"/>
              </a:rPr>
              <a:t>By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Arial"/>
              </a:rPr>
              <a:t>Sophie BOUT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Arial"/>
              </a:rPr>
              <a:t>William P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Arial"/>
              </a:rPr>
              <a:t>Guillaume PONC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Arial"/>
              </a:rPr>
              <a:t>Pauline ROUSSEL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Arial"/>
              </a:rPr>
              <a:t>Thomas GRE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600" spc="-1" strike="noStrike">
                <a:solidFill>
                  <a:srgbClr val="ffff00"/>
                </a:solidFill>
                <a:latin typeface="Arial"/>
              </a:rPr>
              <a:t>Aymerick JULI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